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11887200" cy="73152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24000" cy="981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7028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53000" y="-360"/>
            <a:ext cx="2869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5080" y="736560"/>
            <a:ext cx="5977080" cy="367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18240"/>
            <a:ext cx="287028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53000" y="9318240"/>
            <a:ext cx="2869920" cy="49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C2F03C7-A103-41BE-BB7C-883BEFEAB6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325440" y="736560"/>
            <a:ext cx="5977080" cy="367992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882720" y="4660560"/>
            <a:ext cx="4857840" cy="441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753000" y="9318600"/>
            <a:ext cx="28699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360" bIns="45360"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BA3B9A68-E0EB-44C5-A638-01963747F5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691-D533-42F3-B6CE-1A714608D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1069992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93640" y="4228200"/>
            <a:ext cx="1069992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19AC-B111-4116-AE19-057CABE39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76440" y="17064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93640" y="42282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076440" y="42282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314D-30D7-4B25-8BB1-EA9C36497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344520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211640" y="1706400"/>
            <a:ext cx="344520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829280" y="1706400"/>
            <a:ext cx="344520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93640" y="4228200"/>
            <a:ext cx="344520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211640" y="4228200"/>
            <a:ext cx="344520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829280" y="4228200"/>
            <a:ext cx="344520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EF6D-D879-45D8-8081-A590F3C0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93640" y="1706400"/>
            <a:ext cx="106999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50"/>
              </a:spcBef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C3ED8-14D7-4BB3-B2DD-F56D1656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10699920" cy="4827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3BD7-2A69-4909-B190-D08091F21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5221440" cy="4827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076440" y="1706400"/>
            <a:ext cx="5221440" cy="4827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E9D50-B221-4C5D-9B46-0DC5B139D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AC1-67F0-4D8A-8EFD-158409136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93640" y="293760"/>
            <a:ext cx="106999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92B5-E175-4025-9D80-33AAF230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076440" y="1706400"/>
            <a:ext cx="5221440" cy="4827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93640" y="42282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C9DE-CB74-4CC9-84DC-1E6F0C0B5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5221440" cy="4827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076440" y="17064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76440" y="42282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08E2-E858-4EA9-A96F-078AA4B3C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93640" y="17064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076440" y="1706400"/>
            <a:ext cx="522144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93640" y="4228200"/>
            <a:ext cx="10699920" cy="23025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indent="0">
              <a:spcBef>
                <a:spcPts val="950"/>
              </a:spcBef>
              <a:buNone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B24A-049D-4BE4-A49C-B8BEF5F3B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53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93640" y="1706400"/>
            <a:ext cx="10699920" cy="48276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 fontScale="98000"/>
          </a:bodyPr>
          <a:p>
            <a:pPr marL="402840" indent="-40284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marL="872640" indent="-33588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2" marL="1343880" indent="-267120">
              <a:spcBef>
                <a:spcPts val="95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3" marL="1880640" indent="-267120">
              <a:spcBef>
                <a:spcPts val="950"/>
              </a:spcBef>
              <a:buClr>
                <a:srgbClr val="000000"/>
              </a:buClr>
              <a:buFont typeface="Arial"/>
              <a:buChar char="–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4" marL="2418840" indent="-2671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5" marL="2418840" indent="-2671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6" marL="2418840" indent="-267120">
              <a:spcBef>
                <a:spcPts val="950"/>
              </a:spcBef>
              <a:buClr>
                <a:srgbClr val="000000"/>
              </a:buClr>
              <a:buFont typeface="Arial"/>
              <a:buChar char="»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9364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60800" y="6780240"/>
            <a:ext cx="3765600" cy="3888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C66D2-8320-4117-9C01-7568C9E22146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93640" y="228240"/>
            <a:ext cx="10699920" cy="15238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IN" sz="3600" spc="-1" strike="noStrike">
                <a:solidFill>
                  <a:srgbClr val="000000"/>
                </a:solidFill>
                <a:latin typeface="Calibri"/>
              </a:rPr>
              <a:t>Measuring Access and Usage of Digital Services in India: Towards Construction of a Comprehensive Inde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593640" y="1706400"/>
            <a:ext cx="10699920" cy="5227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>
              <a:spcBef>
                <a:spcPts val="95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alibri"/>
              </a:rPr>
              <a:t>38th Annual Conference o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Indian Association for Research in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800"/>
            </a:br>
            <a:r>
              <a:rPr b="1" lang="en-IN" sz="2600" spc="-1" strike="noStrike">
                <a:solidFill>
                  <a:srgbClr val="000000"/>
                </a:solidFill>
                <a:latin typeface="Calibri"/>
              </a:rPr>
              <a:t>National Income and Wealth</a:t>
            </a:r>
            <a:r>
              <a:rPr b="0" lang="en-IN" sz="2600" spc="-1" strike="noStrike">
                <a:solidFill>
                  <a:srgbClr val="000000"/>
                </a:solidFill>
                <a:latin typeface="Calibri"/>
              </a:rPr>
              <a:t>”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ctr"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ctr"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Arindam Laha &amp; Sumit Kr. Maj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ctr"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epartment of Commer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ctr"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niversity of Burdw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BB04-E753-4B92-97EC-73F08078E1D7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"/>
          <p:cNvSpPr/>
          <p:nvPr/>
        </p:nvSpPr>
        <p:spPr>
          <a:xfrm>
            <a:off x="609480" y="5799240"/>
            <a:ext cx="10744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This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research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part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ICSSR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sponsored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Minor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Research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entitled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“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Digital Economy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West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Bengal: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there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any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Role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Digital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Financial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Literacy?”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undertaken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at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br>
              <a:rPr sz="1600"/>
            </a:b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Department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Commerce,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University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of 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﻿</a:t>
            </a:r>
            <a:r>
              <a:rPr b="1" lang="en-IN" sz="1600" spc="-1" strike="noStrike">
                <a:solidFill>
                  <a:srgbClr val="000000"/>
                </a:solidFill>
                <a:latin typeface="Arial"/>
              </a:rPr>
              <a:t>Burdwan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93280" y="380880"/>
            <a:ext cx="4969080" cy="64008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Majority of the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Southern states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were found to be performing very well in terms of DEI index whereas most of the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Eastern states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were observed to be performing poorly in terms development of DEI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E69EC-0D7E-47CD-BAFC-74E6E3381DAB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Table 1" descr=""/>
          <p:cNvPicPr/>
          <p:nvPr/>
        </p:nvPicPr>
        <p:blipFill>
          <a:blip r:embed="rId1"/>
          <a:stretch/>
        </p:blipFill>
        <p:spPr>
          <a:xfrm>
            <a:off x="5657760" y="493560"/>
            <a:ext cx="600408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93640" y="293400"/>
            <a:ext cx="10699920" cy="7729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300" spc="-1" strike="noStrike">
                <a:solidFill>
                  <a:srgbClr val="000000"/>
                </a:solidFill>
                <a:latin typeface="Calibri"/>
              </a:rPr>
              <a:t>Statement of the Problem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593640" y="1295280"/>
            <a:ext cx="10699920" cy="52387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Measuring digital economy is often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difficult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as there is no consensus in defining “digital economy” or “digital sector”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Existing research on measurement of the digital economy considered its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contribution in GDP and productivity statistics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(Bukht &amp; Heeks, 2017; Watanabe et al, 2018; Ahmad &amp; Ribarsky, 2018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G20 toolkit for measuring digital economy developed a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methodological framework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for digital transformation. Indicators are broadly classified in four main themes: infrastructural, empowering society, innovation and technology, and jobs and growth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4C9E1-0C2B-4A5C-A623-55E4AD2ACC60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1218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5300" spc="-1" strike="noStrike">
                <a:solidFill>
                  <a:srgbClr val="000000"/>
                </a:solidFill>
                <a:latin typeface="Calibri"/>
              </a:rPr>
              <a:t>Objectives of the Paper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93640" y="1371600"/>
            <a:ext cx="10699920" cy="51624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An attempt is made to measure access and usage indicators of digital services relating to infrastructural and empowering society in the context of Asia-Pacific countries with special reference to Indian economy. Specifically,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is paper seeks to examine </a:t>
            </a:r>
            <a:r>
              <a:rPr b="0" lang="en-IN" sz="3200" spc="-1" strike="noStrike">
                <a:solidFill>
                  <a:srgbClr val="ff0000"/>
                </a:solidFill>
                <a:latin typeface="Calibri"/>
              </a:rPr>
              <a:t>cross-country evidences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on the access and usage of digital services in Asia-Pacific region to identify the relative position of Indian economy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this paper also analyses the </a:t>
            </a:r>
            <a:r>
              <a:rPr b="0" lang="en-IN" sz="3200" spc="-1" strike="noStrike">
                <a:solidFill>
                  <a:srgbClr val="ff0000"/>
                </a:solidFill>
                <a:latin typeface="Calibri"/>
              </a:rPr>
              <a:t>inter-state variation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in Digital Economy Infrastructure in Indi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E2073-CBB8-42D1-99BB-1E959B442186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696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ata Sources &amp; Methodolo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6840" y="1066320"/>
            <a:ext cx="3809880" cy="546732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DEI Index: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‘Use’ (proxy of the demand side dimension) and ‘Access’ (proxy of supply side dimension) indic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11120" indent="-41112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Data sources: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TU database for Asia Pacific region; Telecom statistics for Indian sta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45317-A0D9-44FD-8548-AE4AC1AA0D35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4419720" y="1295280"/>
          <a:ext cx="7086600" cy="5643720"/>
        </p:xfrm>
        <a:graphic>
          <a:graphicData uri="http://schemas.openxmlformats.org/drawingml/2006/table">
            <a:tbl>
              <a:tblPr/>
              <a:tblGrid>
                <a:gridCol w="952560"/>
                <a:gridCol w="2282760"/>
                <a:gridCol w="2079360"/>
                <a:gridCol w="1771920"/>
              </a:tblGrid>
              <a:tr h="560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imens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used in Asia-Pacific reg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icators used in Indian stat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 sourc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0844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fixed telephone subscriptions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obile-cellular telephone subscriptions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ternational Internet bandwidth per Internet user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households with a computer, a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households with Internet acces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ire line tele-density per 100 inhabita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wireless tele-density per 100 inhabita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TU database for Asia Pacific reg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com Statistics India-2018 and Telecom Sector in India for Indian stat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98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ag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ndividuals using the Internet,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fixed broadband subscriptions, an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obile-broadband subscription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fixed broadband density per 100 inhabitants and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mobile broadband density per 100 inhabitant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ITU database for Asia Pacific regio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en-IN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com Statistics India-2018 and Telecom Sector in India for Indian stat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Content Placeholder 2"/>
          <p:cNvGrpSpPr/>
          <p:nvPr/>
        </p:nvGrpSpPr>
        <p:grpSpPr>
          <a:xfrm>
            <a:off x="590400" y="689040"/>
            <a:ext cx="10706400" cy="5614920"/>
            <a:chOff x="590400" y="689040"/>
            <a:chExt cx="10706400" cy="5614920"/>
          </a:xfrm>
        </p:grpSpPr>
        <p:pic>
          <p:nvPicPr>
            <p:cNvPr id="6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90400" y="691920"/>
              <a:ext cx="10706400" cy="561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93640" y="689040"/>
              <a:ext cx="10699920" cy="561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9800" rIns="109800" tIns="54720" bIns="54720" anchor="t">
              <a:noAutofit/>
            </a:bodyPr>
            <a:p>
              <a:pPr marL="411120" indent="-411120">
                <a:lnSpc>
                  <a:spcPct val="100000"/>
                </a:lnSpc>
                <a:spcBef>
                  <a:spcPts val="950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1096920"/>
                  <a:tab algn="l" pos="2193840"/>
                  <a:tab algn="l" pos="3290760"/>
                  <a:tab algn="l" pos="4387680"/>
                  <a:tab algn="l" pos="5484960"/>
                  <a:tab algn="l" pos="6581880"/>
                  <a:tab algn="l" pos="7678800"/>
                  <a:tab algn="l" pos="8775720"/>
                  <a:tab algn="l" pos="9872640"/>
                  <a:tab algn="l" pos="10969560"/>
                </a:tabLst>
              </a:pPr>
              <a:r>
                <a:rPr b="0" lang="en-IN" sz="3800" spc="-1" strike="noStrike">
                  <a:solidFill>
                    <a:srgbClr val="000000"/>
                  </a:solidFill>
                  <a:latin typeface="Calibri"/>
                </a:rPr>
                <a:t> </a:t>
              </a:r>
              <a:endParaRPr b="1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E5C9-D8E9-47B2-B44B-410153684FBE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93640" y="293760"/>
            <a:ext cx="10699920" cy="69696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ctr">
            <a:noAutofit/>
          </a:bodyPr>
          <a:p>
            <a:pPr indent="0" algn="ctr">
              <a:buNone/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esults and Discus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380520" y="990720"/>
            <a:ext cx="4953240" cy="55432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 fontScale="94000"/>
          </a:bodyPr>
          <a:p>
            <a:pPr marL="386280" indent="-386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Asia Pacific Experi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Majority of the countries lies in diagonal elements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: low access-low usage (11 countries), medium access-medium usage (9), and high access-high usage (8) trajector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Like other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South Asian countries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(except Sri Lanka and Maldives), the relative positive of Indian economy (low access-low usage) is no exception in this regard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tabLst>
                <a:tab algn="l" pos="0"/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B3B0F-A231-40F4-A145-78AE35DEF51C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888160" y="1154160"/>
          <a:ext cx="5618160" cy="5153040"/>
        </p:xfrm>
        <a:graphic>
          <a:graphicData uri="http://schemas.openxmlformats.org/drawingml/2006/table">
            <a:tbl>
              <a:tblPr/>
              <a:tblGrid>
                <a:gridCol w="901440"/>
                <a:gridCol w="1382760"/>
                <a:gridCol w="1619280"/>
                <a:gridCol w="1714680"/>
              </a:tblGrid>
              <a:tr h="490320"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sage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ccess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uster 1 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Low usag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uster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edium usag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uster 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High usag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96380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uster 1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Low acces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Afghanistan, Bangladesh, Bhutan</a:t>
                      </a: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Cambodia, </a:t>
                      </a:r>
                      <a:r>
                        <a:rPr b="0" lang="en-IN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dia, Myanmar, Nepal, Pakistan, </a:t>
                      </a: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lestine, Timor-Leste, Lao PDR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22724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uster 2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Medium acces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onesia, Philippines</a:t>
                      </a:r>
                      <a:r>
                        <a:rPr b="0" lang="en-IN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, Sri Lanka</a:t>
                      </a: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Syria, Kyrgyzst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menia, China, Georgia, Jordan, </a:t>
                      </a:r>
                      <a:r>
                        <a:rPr b="0" lang="en-IN" sz="14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Maldives, </a:t>
                      </a: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golia, Thailand, Turkey, Uzbekistan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71680"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luster 3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(High access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zerbaijan, Brunei Darussalam, Kazakhstan, Kuwait, Lebanon, Malaysia, Oman, Russia, Saudi Arabia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400" rIns="68400" tIns="0" bIns="0" anchor="b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ahrain, Cyprus, Israel, Japan, Qatar, Singapore, Korea (Rep.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nited Arab Emirates (UAE)</a:t>
                      </a:r>
                      <a:endParaRPr b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593280" y="533520"/>
            <a:ext cx="4511880" cy="600048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 fontScale="94000"/>
          </a:bodyPr>
          <a:p>
            <a:pPr lvl="1" marL="386280" indent="-3862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Indian Experi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Usage dimension: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Punjab,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Kerala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, Himachal Prade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Access dimension: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Kerala,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Tamil Nad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1" lang="en-IN" sz="2800" spc="-1" strike="noStrike">
                <a:solidFill>
                  <a:srgbClr val="000000"/>
                </a:solidFill>
                <a:latin typeface="Calibri"/>
              </a:rPr>
              <a:t>Overall: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 Holding the top position in ‘Access’ dimension and consistent good performance in ‘Use’ dimension has enabled the state of </a:t>
            </a: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Kerala to be most advanced state in terms of DEI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in all the years under observation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 algn="just"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86280" indent="-38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86280" indent="-386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45F5-37AB-441B-A1A1-339B2DE0F91A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5402160" y="609480"/>
          <a:ext cx="5951520" cy="6174000"/>
        </p:xfrm>
        <a:graphic>
          <a:graphicData uri="http://schemas.openxmlformats.org/drawingml/2006/table">
            <a:tbl>
              <a:tblPr/>
              <a:tblGrid>
                <a:gridCol w="523800"/>
                <a:gridCol w="411480"/>
                <a:gridCol w="453960"/>
                <a:gridCol w="453960"/>
                <a:gridCol w="398520"/>
                <a:gridCol w="398520"/>
                <a:gridCol w="512640"/>
                <a:gridCol w="512640"/>
                <a:gridCol w="411120"/>
                <a:gridCol w="463680"/>
                <a:gridCol w="514440"/>
                <a:gridCol w="512640"/>
                <a:gridCol w="384120"/>
              </a:tblGrid>
              <a:tr h="261720">
                <a:tc rowSpan="2"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e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4"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1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s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ccess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M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H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GUJ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9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JK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E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H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E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R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J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 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72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B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61360"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7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3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5560" rIns="25560" tIns="25560" bIns="2556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61360">
                <a:tc gridSpan="13">
                  <a:txBody>
                    <a:bodyPr lIns="25560" rIns="25560" tIns="25560" bIns="2556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: Author’s own calculation</a:t>
                      </a:r>
                      <a:endParaRPr b="1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95031-9DD0-4001-B62C-FE3694029981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85680" y="457200"/>
            <a:ext cx="1171584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593280" y="380880"/>
            <a:ext cx="4969080" cy="6400800"/>
          </a:xfrm>
          <a:prstGeom prst="rect">
            <a:avLst/>
          </a:prstGeom>
          <a:noFill/>
          <a:ln w="0">
            <a:noFill/>
          </a:ln>
        </p:spPr>
        <p:txBody>
          <a:bodyPr lIns="109800" rIns="109800" tIns="54720" bIns="54720" anchor="t">
            <a:normAutofit/>
          </a:bodyPr>
          <a:p>
            <a:pPr marL="411120" indent="-41112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1096920"/>
                <a:tab algn="l" pos="2193840"/>
                <a:tab algn="l" pos="3290760"/>
                <a:tab algn="l" pos="4387680"/>
                <a:tab algn="l" pos="5484960"/>
                <a:tab algn="l" pos="6581880"/>
                <a:tab algn="l" pos="7678800"/>
                <a:tab algn="l" pos="8775720"/>
                <a:tab algn="l" pos="9872640"/>
                <a:tab algn="l" pos="10969560"/>
              </a:tabLst>
            </a:pPr>
            <a:r>
              <a:rPr b="0" lang="en-IN" sz="2800" spc="-1" strike="noStrike">
                <a:solidFill>
                  <a:srgbClr val="ff0000"/>
                </a:solidFill>
                <a:latin typeface="Calibri"/>
              </a:rPr>
              <a:t>Significant improvements in the digital economy </a:t>
            </a:r>
            <a:r>
              <a:rPr b="0" lang="en-IN" sz="2800" spc="-1" strike="noStrike">
                <a:solidFill>
                  <a:srgbClr val="000000"/>
                </a:solidFill>
                <a:latin typeface="Calibri"/>
              </a:rPr>
              <a:t>were observed in case of Gujarat, Himachal Pradesh, Orissa, North-Eastern cluster States and Jammu &amp; Kashmir during the period of study, 2011-2017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8518680" y="6780240"/>
            <a:ext cx="277488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109800" tIns="54720" bIns="5472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DDFB6-DA78-4D17-9611-F65794370232}" type="slidenum">
              <a:rPr b="1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014880" y="76320"/>
          <a:ext cx="5338800" cy="7491240"/>
        </p:xfrm>
        <a:graphic>
          <a:graphicData uri="http://schemas.openxmlformats.org/drawingml/2006/table">
            <a:tbl>
              <a:tblPr/>
              <a:tblGrid>
                <a:gridCol w="809640"/>
                <a:gridCol w="808200"/>
                <a:gridCol w="793800"/>
                <a:gridCol w="793800"/>
                <a:gridCol w="819000"/>
                <a:gridCol w="817560"/>
                <a:gridCol w="496800"/>
              </a:tblGrid>
              <a:tr h="333360">
                <a:tc rowSpan="2"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 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tates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2"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4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I Inde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1872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I Inde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I Index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n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SM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264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BI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UJ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6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5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H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4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JK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KE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P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H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6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E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3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R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0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0.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U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8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AJ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1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72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N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7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P 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0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WB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2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8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10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3360"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D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39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3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4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26280" rIns="26280" tIns="26280" bIns="2628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0" lang="en-IN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210600">
                <a:tc gridSpan="7">
                  <a:txBody>
                    <a:bodyPr lIns="26280" rIns="26280" tIns="26280" bIns="2628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1096920"/>
                          <a:tab algn="l" pos="2193840"/>
                          <a:tab algn="l" pos="3290760"/>
                          <a:tab algn="l" pos="4387680"/>
                          <a:tab algn="l" pos="5484960"/>
                          <a:tab algn="l" pos="6581880"/>
                          <a:tab algn="l" pos="7678800"/>
                          <a:tab algn="l" pos="8775720"/>
                          <a:tab algn="l" pos="9872640"/>
                          <a:tab algn="l" pos="10969560"/>
                        </a:tabLst>
                      </a:pPr>
                      <a:r>
                        <a:rPr b="1" lang="en-I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ource: Author’s own calculation</a:t>
                      </a:r>
                      <a:r>
                        <a:rPr b="1" lang="en-IN" sz="9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	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6280" marR="262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3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3:36:22Z</dcterms:created>
  <dc:creator>NCEH</dc:creator>
  <dc:description/>
  <dc:language>en-US</dc:language>
  <cp:lastModifiedBy>User15</cp:lastModifiedBy>
  <dcterms:modified xsi:type="dcterms:W3CDTF">2020-08-31T07:02:29Z</dcterms:modified>
  <cp:revision>1334</cp:revision>
  <dc:subject/>
  <dc:title>Sampling</dc:title>
</cp:coreProperties>
</file>